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03F-26C0-4903-9861-33193C44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93D-D5ED-4D6C-9E23-802DAA71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D4E4-25D9-4A85-A5D0-792B695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09622-5EB4-403D-A04C-40500642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9E2C2-6A82-4C57-83D3-0803AC25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A743E-4FF0-4859-8BC8-1C775830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C085F-D699-4DC2-877C-057370F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045DE-E434-4953-9524-3E5FE53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9242-704D-4BC4-B6D1-4ABEF8F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4BA8-D902-4459-881A-9A7A0C3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5878E-A2FB-40E7-87AC-86BD7682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602D1-9F9A-476B-AC27-0AA6F870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D7A-9D97-4CCB-9371-4494C791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A651-6280-4360-ABEC-438AB99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A3347-575D-428C-B305-CA0AC26B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7525-BDA3-4831-81DB-26E1F1F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56F06-993F-4CEB-892B-498A7DA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3E28C-5166-45B1-8292-C57B448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CF494-DEED-420D-B184-3CB041E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9667A-84DB-4A3E-A788-0C6333F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7076-E62C-4967-B63D-4AD3367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DD5D5-1BDC-4A0A-9584-E2410081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B586D-9B7B-4BD1-8358-4D26F1A2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C06-1B0A-481F-9DFA-50C19CBD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2856E-60C8-4253-8C52-7421B51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501A9-0F5F-4737-AD9D-8ACBD1D3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F857-CB08-4979-AD96-52C4583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DC659-6026-4861-A36D-57F9550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359B-2E69-4F98-AAAB-AFEAF65B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50023-A80E-43A4-9139-5C54296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938D5-BA56-4287-8DD5-8D3D10E4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63033-FEA6-4BFF-839A-409E3E2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9E27E-0F1C-4B27-9A48-309346E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C9DE5-982F-4EBA-B689-7D44147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CFFC-23C3-4C26-87D7-6D668726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BAEC-98D5-4762-93A5-5036F0D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D1424-5B27-4732-B72F-A587EE73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F2FB8-BBF3-4D77-B3C7-F1D102E5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698DB-8694-4858-80E3-711E5CDB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55778-EFFC-41BE-AA89-40173CC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A2628-364B-447A-BD2E-8E596AB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8AB52-8F7A-468C-AA3A-15C68624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CF66-130D-4E33-9984-DDEFF535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7F657-6F98-4611-8233-B69EF2C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B51BD-E726-47FD-AFD4-828A3F3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39F-2B00-42F9-8547-DC5849B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D8B80-E7AA-4730-9FC9-3FBC2B6C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59B3A-5DFB-40CA-AC4A-CE829A0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6653-E8E5-41E6-AD5F-3F61D69B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6D4D1-2A81-4395-8117-42F0E6B6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B2D71-6B10-40D4-BE11-F9304CE4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04B2-D5B2-4575-BF2B-BF16788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4753-2C72-40AA-9092-A8BBE15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299A-5A7F-456B-BE2E-AD9A63ED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101-E8EE-482C-B2C0-7D6F8F5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5B8-10BF-4063-9EBA-2FC7695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125-4598-4568-AD88-3F7F711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138D-F906-41A8-B1AA-335DF0A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5783-111E-4B93-8440-2519D01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6CE-E676-4110-836B-7913BF29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631-F1BB-43FD-9A98-427EE2F3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93D1-F601-42E9-84CB-051CDBFB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316A-1858-47BD-AC88-DEE092A2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2EDD-33C7-4AD2-A7D0-32429AA3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B7A3-8F5B-496D-9766-58289B4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4AFC-CD8F-4D80-A977-D44C7EA6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F88D-7CCB-434A-990A-7C94FAA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7F3-050B-44B0-B35E-E9800BBF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A57A-16BE-4D34-8261-68EF7948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D7CF-6C8D-4D6C-A45F-111FFFD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9AA4-DC27-4483-A55F-328D725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A30C-82EE-4FFD-939D-CF06DF0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D3BC-0D8F-41B9-A73E-E7D5F1C4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E102-E8B9-4D67-9185-398520A9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AACC-83CB-44BD-A47C-A58BD7B6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EA1A-3846-4643-B237-EFCB0F24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3341-F7B6-4A62-A2A9-F52E9F8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760E-CE8A-4A12-A84A-634DDF93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742-6756-4F6E-806C-06FBC25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9AFB-2D59-49C9-85FA-592B67ED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1557-28C1-409F-A54D-7E0CD33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8771-DB21-4F1A-B4D6-20D64634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A2E9-D20B-459E-ADED-5F95C08E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452F-CBBB-4705-B965-A1A23FF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39D5-FB66-4EFC-A92B-00DD8B5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031E-56AB-47CE-80AF-1750BA1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F08B-BD13-4DE9-AFA5-6B70C81E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38F1-9663-405F-B6BE-D55B1BC4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B425-4D0D-4C4F-83E1-D3387FCF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8A0-B38C-4EC8-949B-D7EBC4A5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32B9B-193B-4B1B-A290-15B270AF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17EA9-E52F-4CE4-828B-5265A3DF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95C27-711B-4781-994D-A6F6DC6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6A84-2C71-4DB3-AC58-6A4361D3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1646-20EF-4C82-A3C0-3C2EAE8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C5F0-EB30-45E7-B230-492709F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34BD-E9A9-4E26-96B1-5761659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65F8-55A1-482A-B856-E9DD62B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AC51-0342-41AF-ADCE-BB605E42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6040-A61B-46F4-94ED-B8CDC48C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1A9-110F-4FEF-B196-C03EDD90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4111-620D-4729-A423-70C43B5D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D8EE9-3381-4308-8FE9-A42147F5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3E84-A35C-4E5E-BE22-E37DA577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37ED1-67FC-4C23-A03F-1EF5D3B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A337-7942-487A-B293-8EB3174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6229D-C7C1-4836-8DB6-3DC8EF78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79966-D30E-492F-B107-AE99AF7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5C0D1-C180-4C36-872C-1CDD40B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9861-AFF9-4D70-95A2-3A22C80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F660-0270-4FDD-9E94-F4EEEC5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7BC-B151-4569-8F9B-B7267BA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FF6D-6F7B-4176-8E78-A24E9A6D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17C9-C9EC-4AD4-980F-9CC33849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AD59-063C-4511-98F9-A0DF5336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E073-94A2-4F94-8667-3DB69278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33A9C-27CF-43E9-9B67-8AA391F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B8F2-DBE5-4FA2-9A46-34A7B4C1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342C-3D4C-4794-8B7C-FCA0E47A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5A79-7A74-4E6F-B6EC-ACA65CB7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4851-AF4A-4870-9F9E-FA48EDA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0CA7-7615-4F91-B208-B456168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102-7F43-4307-BE9A-CEDF3B8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857F-0AB3-4AFB-81EB-8B8B41B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129F-944C-4684-ADC5-00EFF5A7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64C9-90F4-4C58-8B6C-96B3566A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14D3-F005-4C99-A431-4D07FEA9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20BD-CF17-406B-9C14-F5B50E5F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970F-2D6F-4D23-BB93-535A1AF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3A2D-F782-4F56-9B10-1E770028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D746-9072-4C03-896F-1075A417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ED685-684D-4A3B-ACF4-8C91F80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44F6-330A-4427-AB70-012CC84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1D7-7350-4521-8C28-AA3D524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BE5C-8690-4D20-A10D-7B8F44AA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1D5E-CC06-457D-BF89-73850C3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F04B2-44F4-4EBD-AC82-992732C9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3C99-DDAF-4593-BB0E-7BA8EBA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CC26-D39D-48F4-9E3C-47224E11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E3FB-FC39-4260-A225-6147F91B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AD5FC-3039-4A59-B580-3998959B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6BEB1-24B6-449A-8948-9A4D6622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0478-6E4B-4FB0-9381-A7CF4B1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13627-9FD7-47A7-A98B-7947438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C37-285A-472E-8B7B-60574EEDB064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ECB-4431-4C69-9E07-765FF2F768D3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4C0-B14B-4235-B5E1-920A94230599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EDC-A13E-4519-8D71-8D3FD9776C6C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76F9-2BA9-43E9-B056-A3E8C7ECF638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60F-9BE5-456F-A54E-F155A3837422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30D8-E88C-4F4B-B3AD-3F6246F6EC49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F71-2BBF-4FC1-A94F-B09132C72C53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0C2-99E9-44E8-AD9D-E6831D62710F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41B-8C25-4720-817B-75EB4E93FFD1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D1D-AFE9-4EB5-B861-8900E9B8A6BC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6C0-A4B9-4913-A32C-CDEE4F4AECFB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3.2-  IMPEDIMENTS TO SOCIAL CHANG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2700000" y="3068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d4d4d4"/>
              </a:solidFill>
              <a:latin typeface="Gill Sans MT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27000" y="1569960"/>
            <a:ext cx="4286160" cy="3733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4716360" y="1569960"/>
            <a:ext cx="424836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Participatory Research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bjects itself participate in deciding goals and methods of study should b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bjects also decide how the findings should be us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EX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127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971640" y="1847880"/>
            <a:ext cx="69134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As a result of limitations of PR , 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Advocacy Research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introduc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Functions will remain with the researcher, who becomes the advocat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Case Study Page 75-76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#’s 1-4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1080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James Scott- Participant Observ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Everyday Forms of Peasant Resistan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abot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Deser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low work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Both sides were constructing their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Worldview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Rich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Were pushing idea of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Modern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All social change is inevitable and of benefit because it leads to an improved socie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ggest new technology was more efficient, easier on the land, increased competitiveness which in turn increased wealth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Labourer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Gill Sans MT"/>
              </a:rPr>
              <a:t>Traditional Worldview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Adherence to old practices, especially those of charity and consideration for the poor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Ability to find work, was key to economic and cultural survival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Claimed that the machines would be good at first, but then they would damage rice paddies in long ru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Owners backed by international agricultural equipment manufacturers and bank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Local rice farmers rooted in their cul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In the end, some mechanical processes were introduc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Many labourers kept their employment but were assigned different job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5:56Z</dcterms:created>
  <dc:creator>Jason</dc:creator>
  <dc:description/>
  <dc:language>en-US</dc:language>
  <cp:lastModifiedBy>Jason</cp:lastModifiedBy>
  <dcterms:modified xsi:type="dcterms:W3CDTF">2010-10-08T16:23:34Z</dcterms:modified>
  <cp:revision>7</cp:revision>
  <dc:subject/>
  <dc:title>3.2-  Impediments to Social Change</dc:title>
</cp:coreProperties>
</file>